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349-95A0-4E93-BF4E-38A85B51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FDF-6832-4E7E-A03B-8371C9FE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65A80-DA66-4201-8329-12B41B67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7F28-3459-406C-A7BD-F748D756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E11F9-7532-4D46-920F-BF806538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E86EE-CBCA-4352-A8BE-670AA32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611AA-B662-437B-B972-368DEC8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81ED7-7083-41B1-9707-962141E4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94977-2FA6-4F25-BBEF-63C23F8F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24E80-B235-4D0C-9353-27271BDA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5CFD6-D632-4724-BAB5-77440DC1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54CD1-0A53-4EB9-81DA-F47A6323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EB9-3598-41DB-BAC6-2343089A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D02E5-DB2B-4199-811F-AB50039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ECCEB-A8BF-41E0-921F-F54FC635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58B95-E2BF-48CE-874D-376078CA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93FEE-9206-474B-8E33-58A42E62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87122-B5C5-444C-97F6-370EBD56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683C8-F6ED-4366-98F2-37DB5FA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D0534-63D2-4A9C-90AD-9C7A194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217F0-FEC3-4FD0-AA01-2DA49AC2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7C0D4-487D-48BC-A813-08AEB666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DCE52-BD57-4DFB-9C38-B947A4FC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4C6-198F-4115-969B-350B83CC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6126F-1BDB-4C41-B2FF-96E6FC03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24B5C-8CC7-4019-8B0F-0C2D9165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28917-7372-4AC0-BD49-FC6F787C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ACAEE-5626-45DD-A1E9-DABF5BAA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53536-BA5E-4777-82AD-04D5689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4C4CF-3C16-4B62-A1A5-52121E9A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3677D-02A5-4EB0-BCBD-D739C3F7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D7FAD-232F-405D-A880-8DFE50A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D995A-0651-4C21-986D-C9D587B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0AED9-BF42-4F2B-97A2-E7C5B072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1960-FC64-4C72-BB50-7EB77A76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F5C6D-FE4A-4360-A42E-F8EABFD0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868C9-259D-47B4-A146-4ADBC559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F2777-712D-4F7D-B981-AEEF7510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871E-5E02-44BE-AA72-EDC9499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2D9-6FE8-42E3-AAAD-AF71A4F1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45D7-9CC4-462C-930D-A4134DC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A22B-9C9F-443B-AB34-D0A8A01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BF14-86CF-472C-AD71-7C3239CE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1AB0-FE17-4A24-A250-FB79DC96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B5B-FF50-4676-9041-63174BC1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DA56-238C-4075-BA84-C5098E27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6238-D4D7-4848-8B8D-A4696878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E351-B2A0-4767-8CCC-5032AB28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BE0E-917E-4A24-B867-47D95C6F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A8E4-4015-4904-97D2-61EF79C7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2336-9E9C-4BBE-ACC9-1C488EAE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F13C4-65F6-45FD-B86D-F2F068BE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44E5-70F6-496A-A7EC-B2C37DC4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AF18-194F-49AD-9D30-8987019F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D1C3-78AD-413E-8265-E01C5C46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1D4-E3D5-4502-93B6-613CFE7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6091-DAD2-4EDE-8BE1-98A4065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48BA-D806-4C3C-BF39-2E2FFE5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5909B-4EB2-4DC5-A818-936EF05A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5FB6-F02A-41F4-9C0B-0802588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F5E1-1A03-40F0-BDAB-3022E9AF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6FF1-2501-4849-A2B2-508CD5D0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B4A2-233B-499E-A0B3-0986ECF1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8F10-108D-4492-875E-7A07CC55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7343-1BFE-4C87-9BFD-A334E732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F1A4-BBCC-4918-9B06-3C4F6372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1C4-C382-4E92-907A-4EF9CBE3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E05F-5777-4EE8-A0E4-42687892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E881-7064-4E75-96F8-B8400D6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FA1C-34C9-49E1-B214-718FA6CD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F6FE-E8C4-4EBA-A104-DBBF912E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1033C-D255-4299-90FA-0725049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A301-0EED-4FC4-86EC-1575646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CF51-1999-4665-9BF2-8FC394DE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1BBA-7FE6-4A50-A8C4-FDBA51C3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FCDE-66CA-4BAE-81A2-785BDCD1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F528-8406-4449-823B-E45051EA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482-F2C4-4D5A-AD1D-56369E71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F47C9-7396-4360-8EFA-4DB736CA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1B6D7-AFDF-4E2F-A0BE-DD99CD70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6F76-63C8-4B0C-885B-3CCA729A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66182-BB1B-4C09-9D5B-9591FBF2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0C5B-D4C5-4F89-9CE8-2F147383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9F11-B070-46EE-8D39-5B8BB449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FC380-06C7-480F-BB2F-FB5EE02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CCB73-B2B9-4409-BCBD-2235201A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C74BE-B409-422B-9B65-9A103CE8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66BBD-4E74-4A55-994F-8FBA0E54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2BC-9874-4B3F-B7FE-8406A017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A57BA-8C8D-4A8B-926A-B782A3C2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7C4B3-0A79-42B2-AD67-434239E2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F5C06-912F-42A4-8852-4EEE421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EEBD-6646-41B3-BCF7-2F974BE5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CB22A-9F40-4F89-9EDB-68F53A07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84CC-9F4E-47E6-978C-748D9435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B2F0A-009F-4267-BACA-7593B6BF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1C12-66D0-4D0C-9DC4-898080EA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D877-0481-4C68-AA59-2EC18C7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9000-A015-447A-9248-E9D08DE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84C-644F-48A6-8AFD-D95BFFD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FC20-03A5-4A27-973D-A701F479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6054E-8194-4DE6-9E87-A2230169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B00B2-EF33-4B54-BA95-89A513C2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94ACE-8258-4BA7-B5F5-F17E035C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6EBEB-2C35-4A07-9ADD-65A662B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18AFB-7445-42F5-9FCB-0FBEE356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CAA4C-FCE0-442F-8A2F-62674551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9670F-0C5A-468A-B2A2-E3AE0346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AAD71-EBEE-4039-A9E9-8BECA11E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8428-5673-4AA0-AC60-F29D5C6C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392-08CD-45A3-A142-52B85653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A3B27-5C9F-403F-AA67-3F928C03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5300-60BA-4A2D-9BF3-D45CD4E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6D99F-BD1C-4275-BB85-1CF553B1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11788-74B8-4D8C-A97B-3F907C8C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1D089-1FDA-4F88-8464-B816FF41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3A6FD-EA65-45C8-8C72-7FBC3A80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4A2CE-A0DA-44E5-B8C2-385FA5F9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1C437-C695-494E-A300-FAFBDC0D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9D2A3-0E7F-44EF-A4F2-3A840EA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DA7F-DDDC-4881-95DF-A218EC4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C2E-55BF-42B8-B7DD-06FD8523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39C23-B9B9-4C8F-8FAD-7A9A397F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89B9-7CB7-4580-9450-2C563EB8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31A10-7B0B-4F80-B89F-A594848A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E7025-3F17-4255-80B1-5478554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A8139-7B84-4714-83CA-C1545211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122EE-B2F3-46A6-B7AA-F676FDE5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FD9B3-15D5-48D5-ACA5-77BD79EC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41749-99E0-4303-8336-C91E9F3F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4C393-B66E-43AA-B07E-9A58248A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50723-3C00-43F7-854F-2BC92638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EA1E-0344-4C1D-9301-B149EBF26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8E3A-CF95-40F6-B2D8-D7D6553DE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6098-8487-406E-B277-DC28FFCC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9B6E-ABE5-4AFE-9AE1-ABAB8FFF3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C22E-78B0-49E8-8643-FA9006648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ACFB-F672-4A59-8EC1-25343B45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0E8-AA02-4892-A0C4-E6E8C3E33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D852-372F-48C6-96D1-4B9373558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006B-90CA-461A-8982-08A2DEFA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9421-93B8-4D9B-BB6E-BD062BF2C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BFA-8BF6-4F65-820D-FDB9EA1BE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2"/>
          <p:cNvSpPr/>
          <p:nvPr/>
        </p:nvSpPr>
        <p:spPr>
          <a:xfrm>
            <a:off x="1344600" y="43657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5"/>
          <p:cNvSpPr txBox="1"/>
          <p:nvPr/>
        </p:nvSpPr>
        <p:spPr>
          <a:xfrm>
            <a:off x="1763640" y="1628640"/>
            <a:ext cx="554508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z c 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3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C871-3587-4B2D-A076-42472E4C8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wall03-1024"/>
          <p:cNvPicPr/>
          <p:nvPr/>
        </p:nvPicPr>
        <p:blipFill>
          <a:blip r:embed="rId2"/>
          <a:stretch/>
        </p:blipFill>
        <p:spPr>
          <a:xfrm>
            <a:off x="-324000" y="-81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1908000" y="2060640"/>
            <a:ext cx="8950680" cy="34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z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F975-A74A-4FF6-8169-89FE34AF5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4"/>
          <p:cNvSpPr txBox="1"/>
          <p:nvPr/>
        </p:nvSpPr>
        <p:spPr>
          <a:xfrm>
            <a:off x="324000" y="1197000"/>
            <a:ext cx="7920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zī zí zǐ z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6956-DA73-4548-AD9C-AE5839EEA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9"/>
          <p:cNvSpPr/>
          <p:nvPr/>
        </p:nvSpPr>
        <p:spPr>
          <a:xfrm>
            <a:off x="1187280" y="429264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幼圆"/>
                <a:ea typeface="幼圆"/>
              </a:rPr>
              <a:t>半个圆圈</a:t>
            </a:r>
            <a:r>
              <a:rPr b="1" lang="en-US" sz="6600" spc="-1" strike="noStrike">
                <a:solidFill>
                  <a:srgbClr val="0033cc"/>
                </a:solidFill>
                <a:latin typeface="zypyyb"/>
                <a:ea typeface="zypyyb"/>
              </a:rPr>
              <a:t>c c c</a:t>
            </a:r>
            <a:r>
              <a:rPr b="0" lang="en-US" sz="6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1" descr="MDL-ZXM-1081-1"/>
          <p:cNvPicPr/>
          <p:nvPr/>
        </p:nvPicPr>
        <p:blipFill>
          <a:blip r:embed="rId3"/>
          <a:srcRect l="7433" t="20491" r="10595" b="18028"/>
          <a:stretch/>
        </p:blipFill>
        <p:spPr>
          <a:xfrm>
            <a:off x="4643280" y="126828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51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BA0-F381-475C-9AD5-508FD4D9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cɑ  ce  cu  c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2CFA-FB4B-4DF6-AFA1-809ACA8AA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835280" y="2133720"/>
            <a:ext cx="95979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c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BA2-FE1E-4F87-9F45-E38295548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4"/>
          <p:cNvSpPr txBox="1"/>
          <p:nvPr/>
        </p:nvSpPr>
        <p:spPr>
          <a:xfrm>
            <a:off x="457200" y="2205000"/>
            <a:ext cx="8229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cī cí cǐ c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2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EDD7-86C7-4E46-A09B-35D9F2F84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3"/>
          <p:cNvPicPr/>
          <p:nvPr/>
        </p:nvPicPr>
        <p:blipFill>
          <a:blip r:embed="rId2"/>
          <a:stretch/>
        </p:blipFill>
        <p:spPr>
          <a:xfrm>
            <a:off x="4572000" y="476280"/>
            <a:ext cx="3651120" cy="36003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9"/>
          <p:cNvSpPr/>
          <p:nvPr/>
        </p:nvSpPr>
        <p:spPr>
          <a:xfrm>
            <a:off x="1619280" y="429264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半个 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8 </a:t>
            </a: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字 </a:t>
            </a:r>
            <a:r>
              <a:rPr b="1" lang="en-US" sz="5400" spc="-1" strike="noStrike">
                <a:solidFill>
                  <a:srgbClr val="660033"/>
                </a:solidFill>
                <a:latin typeface="zypyyb"/>
                <a:ea typeface="zypyyb"/>
              </a:rPr>
              <a:t>s s s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0" descr="2010_3_4_14_38_8_3226"/>
          <p:cNvPicPr/>
          <p:nvPr/>
        </p:nvPicPr>
        <p:blipFill>
          <a:blip r:embed="rId3"/>
          <a:stretch/>
        </p:blipFill>
        <p:spPr>
          <a:xfrm>
            <a:off x="0" y="0"/>
            <a:ext cx="3719520" cy="371952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F918-5CD7-4FA2-81E6-9A3CD748B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dj088"/>
          <p:cNvPicPr/>
          <p:nvPr/>
        </p:nvPicPr>
        <p:blipFill>
          <a:blip r:embed="rId2"/>
          <a:stretch/>
        </p:blipFill>
        <p:spPr>
          <a:xfrm>
            <a:off x="5724360" y="981000"/>
            <a:ext cx="1873440" cy="2305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2262686_193656038_2"/>
          <p:cNvPicPr/>
          <p:nvPr/>
        </p:nvPicPr>
        <p:blipFill>
          <a:blip r:embed="rId3"/>
          <a:stretch/>
        </p:blipFill>
        <p:spPr>
          <a:xfrm>
            <a:off x="0" y="1341360"/>
            <a:ext cx="1884240" cy="2016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200811875512522_2"/>
          <p:cNvPicPr/>
          <p:nvPr/>
        </p:nvPicPr>
        <p:blipFill>
          <a:blip r:embed="rId4">
            <a:lum contrast="18000"/>
          </a:blip>
          <a:srcRect l="47027" t="5759" r="0" b="22353"/>
          <a:stretch/>
        </p:blipFill>
        <p:spPr>
          <a:xfrm>
            <a:off x="3780000" y="1484280"/>
            <a:ext cx="1782720" cy="1873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200932125940862_2"/>
          <p:cNvPicPr/>
          <p:nvPr/>
        </p:nvPicPr>
        <p:blipFill>
          <a:blip r:embed="rId5">
            <a:lum contrast="24000"/>
          </a:blip>
          <a:srcRect l="11118" t="21538" r="12471" b="13860"/>
          <a:stretch/>
        </p:blipFill>
        <p:spPr>
          <a:xfrm>
            <a:off x="1908000" y="1557360"/>
            <a:ext cx="1872000" cy="1727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ɑ   se   su   s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D09F-3BA4-49CB-96DC-3EFC642B9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340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4661bc1b9f36d0e0832f18b900c375b6"/>
          <p:cNvPicPr/>
          <p:nvPr/>
        </p:nvPicPr>
        <p:blipFill>
          <a:blip r:embed="rId2"/>
          <a:srcRect l="0" t="0" r="8479" b="15055"/>
          <a:stretch/>
        </p:blipFill>
        <p:spPr>
          <a:xfrm>
            <a:off x="0" y="-63036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546" name="WordArt 4"/>
          <p:cNvSpPr txBox="1"/>
          <p:nvPr/>
        </p:nvSpPr>
        <p:spPr>
          <a:xfrm>
            <a:off x="539640" y="404640"/>
            <a:ext cx="612000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s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4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26E2-368B-46E7-A93C-AB48B2124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4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sī sí sǐ s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3438-3FAE-4142-B872-FFF6D916F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2133"/>
          <p:cNvPicPr/>
          <p:nvPr/>
        </p:nvPicPr>
        <p:blipFill>
          <a:blip r:embed="rId3"/>
          <a:stretch/>
        </p:blipFill>
        <p:spPr>
          <a:xfrm>
            <a:off x="1116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0" descr="12S314625250-21V5"/>
          <p:cNvPicPr/>
          <p:nvPr/>
        </p:nvPicPr>
        <p:blipFill>
          <a:blip r:embed="rId4"/>
          <a:stretch/>
        </p:blipFill>
        <p:spPr>
          <a:xfrm>
            <a:off x="1908000" y="1341360"/>
            <a:ext cx="4681800" cy="468144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3274920" y="1773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f0076"/>
                </a:solidFill>
                <a:latin typeface="Arial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564000" y="2349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348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3564000" y="191628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3780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99"/>
                </a:solidFill>
                <a:latin typeface="Arial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3995640" y="2205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995640" y="2421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4211640" y="2349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66"/>
                </a:solidFill>
                <a:latin typeface="Arial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995640" y="2060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66cc"/>
                </a:solidFill>
                <a:latin typeface="Arial"/>
              </a:rPr>
              <a:t>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4211640" y="2276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3300"/>
                </a:solidFill>
                <a:latin typeface="Arial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4427640" y="2852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3635280" y="213372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c1c1c"/>
                </a:solidFill>
                <a:latin typeface="Arial"/>
              </a:rPr>
              <a:t>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4067280" y="2060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800080"/>
                </a:solidFill>
                <a:latin typeface="Arial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572000" y="2637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3924360" y="220500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D2F4-CC3F-4774-ABD4-39A35E57C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042920" y="90792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妞妞写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4574160" y="76500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4292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儿吐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427640" y="1625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042920" y="285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半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4430160" y="270828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1042920" y="371628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一个半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4503240" y="357336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CC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16000" y="45813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像个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4574160" y="450864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15"/>
          <p:cNvSpPr txBox="1"/>
          <p:nvPr/>
        </p:nvSpPr>
        <p:spPr>
          <a:xfrm>
            <a:off x="2124000" y="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猜谜语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9487-1E2C-4023-A1A7-25F1D35CA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46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899640" y="404640"/>
            <a:ext cx="6551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zz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圆半圆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c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个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字就是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2_1"/>
          <p:cNvPicPr/>
          <p:nvPr/>
        </p:nvPicPr>
        <p:blipFill>
          <a:blip r:embed="rId3"/>
          <a:stretch/>
        </p:blipFill>
        <p:spPr>
          <a:xfrm>
            <a:off x="7667640" y="5373720"/>
            <a:ext cx="1152360" cy="1233360"/>
          </a:xfrm>
          <a:prstGeom prst="rect">
            <a:avLst/>
          </a:prstGeom>
          <a:ln w="0">
            <a:noFill/>
          </a:ln>
        </p:spPr>
      </p:pic>
      <p:sp>
        <p:nvSpPr>
          <p:cNvPr id="568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680F-19BD-455B-956B-DECAB4A17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48360" y="1238040"/>
            <a:ext cx="251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572" name="Line 4"/>
          <p:cNvSpPr/>
          <p:nvPr/>
        </p:nvSpPr>
        <p:spPr>
          <a:xfrm>
            <a:off x="5292720" y="17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5292720" y="2708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5364000" y="76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292720" y="37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4148-CE41-4591-97F9-AC951C92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5076720" y="1600200"/>
            <a:ext cx="15112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79" name="Line 5"/>
          <p:cNvSpPr/>
          <p:nvPr/>
        </p:nvSpPr>
        <p:spPr>
          <a:xfrm>
            <a:off x="4572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572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4572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4572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1114560" y="5300640"/>
            <a:ext cx="72738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B9B2-CFB7-4491-927D-DB419289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72840" y="1600200"/>
            <a:ext cx="2243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3"/>
          <p:cNvPicPr/>
          <p:nvPr/>
        </p:nvPicPr>
        <p:blipFill>
          <a:blip r:embed="rId2"/>
          <a:stretch/>
        </p:blipFill>
        <p:spPr>
          <a:xfrm>
            <a:off x="5076720" y="333360"/>
            <a:ext cx="3651480" cy="3600360"/>
          </a:xfrm>
          <a:prstGeom prst="rect">
            <a:avLst/>
          </a:prstGeom>
          <a:ln w="0">
            <a:noFill/>
          </a:ln>
        </p:spPr>
      </p:pic>
      <p:sp>
        <p:nvSpPr>
          <p:cNvPr id="588" name="Line 5"/>
          <p:cNvSpPr/>
          <p:nvPr/>
        </p:nvSpPr>
        <p:spPr>
          <a:xfrm>
            <a:off x="108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08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108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108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D7BF-2484-4ED8-A8B5-E2E9CA061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900000" y="981000"/>
            <a:ext cx="48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     c     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5" name="WordArt 6"/>
          <p:cNvSpPr txBox="1"/>
          <p:nvPr/>
        </p:nvSpPr>
        <p:spPr>
          <a:xfrm>
            <a:off x="539640" y="3789360"/>
            <a:ext cx="504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i   ci   si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7507-1DC6-40E7-BD46-22F778FF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4"/>
          <p:cNvSpPr txBox="1"/>
          <p:nvPr/>
        </p:nvSpPr>
        <p:spPr>
          <a:xfrm>
            <a:off x="1403280" y="2349360"/>
            <a:ext cx="62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cī cí cǐ c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99" name="WordArt 5"/>
          <p:cNvSpPr txBox="1"/>
          <p:nvPr/>
        </p:nvSpPr>
        <p:spPr>
          <a:xfrm>
            <a:off x="1403280" y="333360"/>
            <a:ext cx="612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黑体"/>
              </a:rPr>
              <a:t>zī zí zǐ z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黑体"/>
              <a:ea typeface="黑体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1332000" y="4292640"/>
            <a:ext cx="6264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黑体"/>
              </a:rPr>
              <a:t>sī sí sǐ s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黑体"/>
              <a:ea typeface="黑体"/>
            </a:endParaRPr>
          </a:p>
        </p:txBody>
      </p:sp>
      <p:sp>
        <p:nvSpPr>
          <p:cNvPr id="601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F787-83DA-47E1-8A08-EE3FF243C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5" descr="IMAG1238549786024439"/>
          <p:cNvPicPr/>
          <p:nvPr/>
        </p:nvPicPr>
        <p:blipFill>
          <a:blip r:embed="rId2"/>
          <a:srcRect l="0" t="20117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0" y="764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sī jī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cí yǔ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zǐ sè  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tuō mǎ s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_1"/>
          <p:cNvPicPr/>
          <p:nvPr/>
        </p:nvPicPr>
        <p:blipFill>
          <a:blip r:embed="rId3"/>
          <a:stretch/>
        </p:blipFill>
        <p:spPr>
          <a:xfrm>
            <a:off x="8059680" y="5697360"/>
            <a:ext cx="1084320" cy="1160640"/>
          </a:xfrm>
          <a:prstGeom prst="rect">
            <a:avLst/>
          </a:prstGeom>
          <a:ln w="0">
            <a:noFill/>
          </a:ln>
        </p:spPr>
      </p:pic>
      <p:sp>
        <p:nvSpPr>
          <p:cNvPr id="60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3A17-C240-48CB-A979-A40CB964C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5" descr="46_1286934152Z7Vg"/>
          <p:cNvPicPr/>
          <p:nvPr/>
        </p:nvPicPr>
        <p:blipFill>
          <a:blip r:embed="rId2"/>
          <a:stretch/>
        </p:blipFill>
        <p:spPr>
          <a:xfrm>
            <a:off x="6480" y="3240"/>
            <a:ext cx="9099360" cy="6823080"/>
          </a:xfrm>
          <a:prstGeom prst="rect">
            <a:avLst/>
          </a:prstGeom>
          <a:ln w="0">
            <a:noFill/>
          </a:ln>
        </p:spPr>
      </p:pic>
      <p:sp>
        <p:nvSpPr>
          <p:cNvPr id="478" name="WordArt 4"/>
          <p:cNvSpPr txBox="1"/>
          <p:nvPr/>
        </p:nvSpPr>
        <p:spPr>
          <a:xfrm>
            <a:off x="2195640" y="-17136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你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05E6-05FA-4BB7-9A81-2AD3B5539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434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48360" y="-6075000"/>
            <a:ext cx="2519280" cy="160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5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3" name="Picture 4" descr="1"/>
          <p:cNvPicPr/>
          <p:nvPr/>
        </p:nvPicPr>
        <p:blipFill>
          <a:blip r:embed="rId2"/>
          <a:stretch/>
        </p:blipFill>
        <p:spPr>
          <a:xfrm>
            <a:off x="-25236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4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像个小２ 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z z z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0" descr="f704bdfe50255cb9b901a0f7"/>
          <p:cNvPicPr/>
          <p:nvPr/>
        </p:nvPicPr>
        <p:blipFill>
          <a:blip r:embed="rId3"/>
          <a:stretch/>
        </p:blipFill>
        <p:spPr>
          <a:xfrm>
            <a:off x="4643280" y="0"/>
            <a:ext cx="3810240" cy="3314880"/>
          </a:xfrm>
          <a:prstGeom prst="rect">
            <a:avLst/>
          </a:prstGeom>
          <a:ln w="0">
            <a:noFill/>
          </a:ln>
        </p:spPr>
      </p:pic>
      <p:sp>
        <p:nvSpPr>
          <p:cNvPr id="48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56A4-5518-47B4-A4ED-939476EEC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97440" y="1341360"/>
            <a:ext cx="167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z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141800" y="3357720"/>
            <a:ext cx="19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044360" y="3284640"/>
            <a:ext cx="13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173240" y="1143000"/>
            <a:ext cx="145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E738-851B-46AD-831D-B4F71B4AF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639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ā  zá   zǎ  z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E450-CE20-4E73-AC07-EE7B3512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ē  zé  zě  z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7E10-7C6A-4E97-9946-E59C10AC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ū  zú   zǔ  z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1847-D523-42BF-BEA0-63EA68B4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zuō  zuó  zuǒ  z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A7E7-7DC2-4D60-947A-CB53B96A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15:40Z</dcterms:created>
  <dc:creator/>
  <dc:description/>
  <cp:keywords/>
  <dc:language>en-US</dc:language>
  <cp:lastModifiedBy>User</cp:lastModifiedBy>
  <dcterms:modified xsi:type="dcterms:W3CDTF">2016-10-05T12:47:28Z</dcterms:modified>
  <cp:revision>57</cp:revision>
  <dc:subject/>
  <dc:title>幻灯片 1</dc:title>
</cp:coreProperties>
</file>